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501-9AE2-474B-ACA6-07B35CE0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888-CDEC-4336-BBFC-F95A2864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3B1-A936-4118-98DF-01DB4444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7C7-3B97-43A4-9F52-06214C60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820F-2CE7-4343-BC77-CADFCB69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8EC5-4C0E-4F76-8FE4-550839E9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DFFC-D246-4992-B2EB-132E0C36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06BA-4EA4-4143-8CCC-37E1AE7D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CFA7-026A-4C6F-B9A9-FAABEB48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E15C-9541-48D2-8751-8D22E833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FB4A-970E-4B34-977A-2EB376F1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51EB-F017-4CE2-B526-962E849D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E434-3056-423C-8837-BFC1A590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E7F0-6E34-47E6-B3B4-BA399C5D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BF1F-B00E-4FD3-A166-7C305BB6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C36A-1A0E-4379-BBC9-840A777F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B746-9006-44FD-827C-D15EC7F1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52D27-08AD-4AF2-809B-3EFF986B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D802-E47E-4273-AAA2-68C89AF5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E58C5-6149-4F68-8156-F79F290A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2488-49F1-4B78-8694-A0E1DA0F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CCC4-A6C1-4DBC-BE68-052CD2AC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083-BA5C-4101-9EAF-6FC1F8DE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932D-5F48-4696-B5A0-53799428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DF5DE-A414-4BC8-B05D-766146CB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97A7C-61A4-48AD-9F75-CEC5D7E8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71A3-C5FB-418D-82DF-7392971C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C9C4-3580-468D-B001-FFAF1A40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9DA75-3191-4712-9034-84B8197E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A435-6CC7-41D5-9CBD-FA8B9EC0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1510A-5843-4BC1-8C36-47BC0ACB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5CB2D-2735-4982-835A-F3A2E0C1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F3330-0773-4712-B2B7-86C24D7C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C7C-B64F-4B49-9E41-9EC0C579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3ACC-DC05-457E-ADEA-81D9ECF1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8D33-1F41-4061-BF6A-39EDABC5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829FA-6D6B-4DF5-9C41-AB1E2A4E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6A89E-0734-40B5-887A-9A2D123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69518-A39C-41B3-9E00-2A2F2586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AC73-2FDB-404F-AE71-DFF8D53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58A51-22EC-403D-8DFB-42844E07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308DC-9E1F-49E5-B2BE-A2E196C1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2A98B-1E55-424A-B53A-9819BBAD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20B-3C5A-4C9E-819A-7E141D05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EB6-CB80-4F76-B716-807FD685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02D-42EC-41B5-9CA6-D8861B39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3D5-339E-48E3-9873-28B4C34E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915-6B52-4ECE-B131-748702FF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5548-11E9-4A82-B97D-8FC032FD0972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E79E-3C4F-4CB6-93C7-32009AED2E37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8C7B-5443-4980-AEB3-A6526392E21B}" type="slidenum">
              <a:rPr b="0" lang="en-US" sz="1200" spc="-1" strike="noStrike">
                <a:solidFill>
                  <a:srgbClr val="f3e8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EB22-8461-425A-9634-AF88382DE4B5}" type="slidenum">
              <a:rPr b="0" lang="en-US" sz="1200" spc="-1" strike="noStrike">
                <a:solidFill>
                  <a:srgbClr val="535a6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spañol 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I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68c4"/>
                </a:solidFill>
                <a:latin typeface="Constantia"/>
              </a:rPr>
              <a:t>SUBI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Documents and Settings\Administrator\Local Settings\Temporary Internet Files\Content.IE5\8CO4BM26\MCj04102730000[1].wmf"/>
          <p:cNvPicPr/>
          <p:nvPr/>
        </p:nvPicPr>
        <p:blipFill>
          <a:blip r:embed="rId1"/>
          <a:stretch/>
        </p:blipFill>
        <p:spPr>
          <a:xfrm>
            <a:off x="5257800" y="2743200"/>
            <a:ext cx="3443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Más –IR verbos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Admit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admit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Permit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permit, al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Asistir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a)-to atten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Recib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recei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Cubr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cov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Sufr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suff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ecid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decid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Un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uni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escrib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describ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Viv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liv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escubr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discov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iscut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discus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scrib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wri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isti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-to exi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0" lang="en-US" sz="4900" spc="-1" strike="noStrike">
                <a:solidFill>
                  <a:srgbClr val="575f6d"/>
                </a:solidFill>
                <a:latin typeface="Comic Sans MS"/>
              </a:rPr>
              <a:t>¿Cómo se dice en español?</a:t>
            </a:r>
            <a:endParaRPr b="0" lang="en-US" sz="49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-They attend sch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Ellos asisten a la escuel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-She writes w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Ella escribe bue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- You understand Spanis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Tú comprendes españ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-We sell the app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Nosotro vendemos las manza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- I read the boo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Yo leo el libr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Los finales para –ER Verbos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3668c4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SOTROS 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é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/UD.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 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 emo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COM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Documents and Settings\Administrator\Local Settings\Temporary Internet Files\Content.IE5\BZ9VOC52\MCj04404580000[1].wmf"/>
          <p:cNvPicPr/>
          <p:nvPr/>
        </p:nvPicPr>
        <p:blipFill>
          <a:blip r:embed="rId1"/>
          <a:stretch/>
        </p:blipFill>
        <p:spPr>
          <a:xfrm>
            <a:off x="457200" y="2590920"/>
            <a:ext cx="3146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68c4"/>
                </a:solidFill>
                <a:latin typeface="Constantia"/>
              </a:rPr>
              <a:t>CORR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R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Documents and Settings\Administrator\Local Settings\Temporary Internet Files\Content.IE5\CJ9PF0LJ\MPj04308020000[1].jpg"/>
          <p:cNvPicPr/>
          <p:nvPr/>
        </p:nvPicPr>
        <p:blipFill>
          <a:blip r:embed="rId1"/>
          <a:stretch/>
        </p:blipFill>
        <p:spPr>
          <a:xfrm>
            <a:off x="1066680" y="2514600"/>
            <a:ext cx="2598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LEE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C:\Documents and Settings\Administrator\Local Settings\Temporary Internet Files\Content.IE5\CJ9PF0LJ\MCj04404240000[1].wmf"/>
          <p:cNvPicPr/>
          <p:nvPr/>
        </p:nvPicPr>
        <p:blipFill>
          <a:blip r:embed="rId1"/>
          <a:stretch/>
        </p:blipFill>
        <p:spPr>
          <a:xfrm>
            <a:off x="685800" y="2971800"/>
            <a:ext cx="342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Otros –ER verbos incluyen…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Aprend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 to lear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Beb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 to drin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Comprend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understan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Cre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believ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Deb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owe, shoul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Pose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possess, ow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Romp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brea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Tem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fear, drea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Vende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-to sel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Los finales para –IR Verbos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3668c4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SOTROS 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í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/UD.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 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    </a:t>
            </a:r>
            <a:r>
              <a:rPr b="1" lang="en-US" sz="3600" spc="-1" strike="noStrike">
                <a:solidFill>
                  <a:srgbClr val="3668c4"/>
                </a:solidFill>
                <a:latin typeface="Constantia"/>
              </a:rPr>
              <a:t> imo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CRI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CRI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CRI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CRI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I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CRIB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68c4"/>
                </a:solidFill>
                <a:latin typeface="Constantia"/>
              </a:rPr>
              <a:t>ESCRIBI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Documents and Settings\Administrator\Local Settings\Temporary Internet Files\Content.IE5\FKOQXK84\MCj04404280000[1].wmf"/>
          <p:cNvPicPr/>
          <p:nvPr/>
        </p:nvPicPr>
        <p:blipFill>
          <a:blip r:embed="rId1"/>
          <a:stretch/>
        </p:blipFill>
        <p:spPr>
          <a:xfrm>
            <a:off x="4952880" y="2895480"/>
            <a:ext cx="35053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575f6d"/>
                </a:solidFill>
                <a:latin typeface="Calibri"/>
              </a:rPr>
              <a:t>¿Cuál es la forma de los verbos?</a:t>
            </a:r>
            <a:endParaRPr b="0" lang="en-US" sz="45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/Ell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I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/Ella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R</a:t>
            </a:r>
            <a:r>
              <a:rPr b="0" lang="en-US" sz="2600" spc="-1" strike="noStrike">
                <a:solidFill>
                  <a:srgbClr val="3668c4"/>
                </a:solidFill>
                <a:latin typeface="Constantia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68c4"/>
                </a:solidFill>
                <a:latin typeface="Constantia"/>
              </a:rPr>
              <a:t>ABRI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C:\Documents and Settings\Administrator\Local Settings\Temporary Internet Files\Content.IE5\729ZYMEA\MPj01755810000[1].jpg"/>
          <p:cNvPicPr/>
          <p:nvPr/>
        </p:nvPicPr>
        <p:blipFill>
          <a:blip r:embed="rId1"/>
          <a:stretch/>
        </p:blipFill>
        <p:spPr>
          <a:xfrm>
            <a:off x="5410080" y="2590920"/>
            <a:ext cx="25909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20:58:07Z</dcterms:created>
  <dc:creator> </dc:creator>
  <dc:description/>
  <dc:language>en-US</dc:language>
  <cp:lastModifiedBy> </cp:lastModifiedBy>
  <dcterms:modified xsi:type="dcterms:W3CDTF">2009-09-29T18:03:23Z</dcterms:modified>
  <cp:revision>8</cp:revision>
  <dc:subject/>
  <dc:title>~ER &amp; ~IR verbos</dc:title>
</cp:coreProperties>
</file>